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TYPE.WAV" ContentType="audio/x-wav"/>
  <Override PartName="/ppt/media/image8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5236-9485-4501-9B6D-948D88A91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B248-32BC-4DC3-94B0-797DF747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1724-80B9-4867-8091-4A6630C6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1C73-12A9-4976-8ED3-2276FA26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EBA7-44A3-4DD3-88CD-958A1D85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732D-E6A7-44EF-9188-D7BCA3FF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D9B0-9C2A-48FC-9056-9C549FAF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2B6A-598F-4AF1-A3FA-E56A7FEE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35F4-3E85-4219-B41B-BB869CCA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4D63-DAB5-49AC-8D94-0BD1B5BB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248B-E3EB-4B9E-B306-77A90C6D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D2D9-4711-41C6-8EBF-46D6E232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28600"/>
            <a:ext cx="2438280" cy="662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228600"/>
            <a:ext cx="2438280" cy="6627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2438280" cy="22860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438280" y="0"/>
            <a:ext cx="67042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77720" y="60912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40080" y="66279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629400"/>
            <a:ext cx="2438280" cy="22716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40080" y="66261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5333760" y="662760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9898-7607-413C-9978-B9C31DF9A85A}" type="datetime3">
              <a:rPr b="0" lang="en-US" sz="1000" spc="-1" strike="noStrike">
                <a:solidFill>
                  <a:srgbClr val="ff0033"/>
                </a:solidFill>
                <a:latin typeface="Arial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2438280" y="662760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7238880" y="66276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4EC0-2670-4BBF-83CB-12B4D8DD6E21}" type="slidenum">
              <a:rPr b="0" lang="en-US" sz="1000" spc="-1" strike="noStrike">
                <a:solidFill>
                  <a:srgbClr val="ff00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866960" y="6665760"/>
            <a:ext cx="171360" cy="166680"/>
          </a:xfrm>
          <a:prstGeom prst="diamond">
            <a:avLst/>
          </a:prstGeom>
          <a:solidFill>
            <a:srgbClr val="0066ff"/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00360" y="6642000"/>
            <a:ext cx="152280" cy="2095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304920" y="6667560"/>
            <a:ext cx="171360" cy="166680"/>
          </a:xfrm>
          <a:prstGeom prst="diamond">
            <a:avLst/>
          </a:prstGeom>
          <a:solidFill>
            <a:srgbClr val="0066ff"/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3840" y="6637320"/>
            <a:ext cx="152280" cy="2095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423720" y="6657840"/>
            <a:ext cx="795600" cy="182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1262160" y="6659640"/>
            <a:ext cx="669960" cy="180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Charge Transfer Multiplet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06668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Introduction: Why Charge transfer and Multiple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Chapter 1: ATOMIC MULTIPLETS (9-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Chapter 2: CRYSTAL FIELD EFFECTS (10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Chapter 3: CHARGE TRANSFER (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13-14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Chapter 4: X-MCD (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15-16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Chapter 5: PHOTOEMISSION AND AUGER (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15-16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Chapter 6: X-RAY EMISSION AND RIX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(15-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252320" y="1905120"/>
            <a:ext cx="988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85800"/>
            <a:ext cx="91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metal oxide: Ground state: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of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arge transfer energy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286000"/>
            <a:ext cx="16761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X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594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79000" y="5029200"/>
            <a:ext cx="17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+U-Q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11480" y="3886200"/>
            <a:ext cx="14479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11480" y="2514600"/>
            <a:ext cx="14479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4724280"/>
            <a:ext cx="137160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791320"/>
            <a:ext cx="14479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16400" y="2743200"/>
            <a:ext cx="0" cy="914400"/>
          </a:xfrm>
          <a:prstGeom prst="line">
            <a:avLst/>
          </a:prstGeom>
          <a:ln cap="sq"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4876920"/>
            <a:ext cx="0" cy="761760"/>
          </a:xfrm>
          <a:prstGeom prst="line">
            <a:avLst/>
          </a:prstGeom>
          <a:ln cap="sq"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11680" y="3886200"/>
            <a:ext cx="1246320" cy="182880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46800" y="2895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2514600"/>
            <a:ext cx="1295640" cy="213372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5715000"/>
            <a:ext cx="1752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04600" y="3886200"/>
            <a:ext cx="790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5715000"/>
            <a:ext cx="2362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286000"/>
            <a:ext cx="24382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X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5791320"/>
            <a:ext cx="14479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3886200"/>
            <a:ext cx="14479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4038480"/>
            <a:ext cx="0" cy="1600200"/>
          </a:xfrm>
          <a:prstGeom prst="line">
            <a:avLst/>
          </a:prstGeom>
          <a:ln cap="sq"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514600" y="2666880"/>
            <a:ext cx="1447920" cy="297180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20040" y="441972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438280" y="3886200"/>
            <a:ext cx="13716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32960" y="4876920"/>
            <a:ext cx="243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Ground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 in XAS and X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609480"/>
            <a:ext cx="5430960" cy="58676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410080" y="762120"/>
            <a:ext cx="3733920" cy="39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tral shape determin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1) Multiplet eff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 Charge Transf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1905120"/>
            <a:ext cx="228600" cy="152280"/>
          </a:xfrm>
          <a:custGeom>
            <a:avLst/>
            <a:gdLst>
              <a:gd name="textAreaLeft" fmla="*/ 39960 w 228600"/>
              <a:gd name="textAreaRight" fmla="*/ 165960 w 2286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74680" y="5105520"/>
            <a:ext cx="216360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J. Elec. 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67, 529 (199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5257800"/>
            <a:ext cx="0" cy="30492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57600" y="5257800"/>
            <a:ext cx="0" cy="30492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1981080"/>
            <a:ext cx="228600" cy="152640"/>
          </a:xfrm>
          <a:custGeom>
            <a:avLst/>
            <a:gdLst>
              <a:gd name="textAreaLeft" fmla="*/ 39960 w 228600"/>
              <a:gd name="textAreaRight" fmla="*/ 165960 w 22860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 in XAS and X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47680" y="609480"/>
            <a:ext cx="8896320" cy="35146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4723920"/>
            <a:ext cx="54100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tral shape determin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1) Multiplet eff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 Charge Transf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7200" y="419112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Energy (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81280" y="1066680"/>
            <a:ext cx="87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iBr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91680" y="10666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4191120"/>
            <a:ext cx="685800" cy="380880"/>
          </a:xfrm>
          <a:custGeom>
            <a:avLst/>
            <a:gdLst>
              <a:gd name="textAreaLeft" fmla="*/ 119880 w 685800"/>
              <a:gd name="textAreaRight" fmla="*/ 497160 w 6858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4191120"/>
            <a:ext cx="60948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04840" y="5562720"/>
            <a:ext cx="216360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J. Elec. 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67, 529 (199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 in XAS and X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0" y="0"/>
          <a:ext cx="571356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71356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33760" y="1676520"/>
            <a:ext cx="33526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ingle Electron Excitation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IEN, FEFF,  …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Many Body Excitation: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Other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447920" y="1142640"/>
            <a:ext cx="0" cy="480060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624852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191120" y="2057040"/>
            <a:ext cx="0" cy="396252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X-ray Absorption Spectrosco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0" y="0"/>
          <a:ext cx="571356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71356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33760" y="914040"/>
            <a:ext cx="380988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ingle Electron </a:t>
            </a:r>
            <a:br>
              <a:rPr sz="2800"/>
            </a:b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xcitation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 main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EN, FEFF,  …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00"/>
                </a:solidFill>
                <a:uFillTx/>
                <a:latin typeface="Arial"/>
              </a:rPr>
              <a:t>Many Body </a:t>
            </a:r>
            <a:br>
              <a:rPr sz="2800"/>
            </a:br>
            <a:r>
              <a:rPr b="0" lang="en-US" sz="2800" spc="-1" strike="noStrike" u="sng">
                <a:solidFill>
                  <a:srgbClr val="00cc00"/>
                </a:solidFill>
                <a:uFillTx/>
                <a:latin typeface="Arial"/>
              </a:rPr>
              <a:t>Excitation: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Other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+K pre-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T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447920" y="1142640"/>
            <a:ext cx="0" cy="480060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624852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191120" y="2057040"/>
            <a:ext cx="0" cy="396252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16240"/>
            <a:ext cx="4987800" cy="5648040"/>
          </a:xfrm>
          <a:prstGeom prst="ellipse">
            <a:avLst/>
          </a:prstGeom>
          <a:solidFill>
            <a:srgbClr val="cbcbcb"/>
          </a:solidFill>
          <a:ln cap="sq"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Unified Interpretatio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X-ray Absorption Spectrosco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914400"/>
            <a:ext cx="914400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47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Chapter 1: ATOMIC MULTIP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47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47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r" pos="547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3d and 4d XAS of La</a:t>
            </a:r>
            <a:r>
              <a:rPr b="0" lang="en-GB" sz="28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+</a:t>
            </a: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 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r" pos="547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Term symb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r" pos="547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XAS described with Atomic Multipl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r" pos="547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r" pos="547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2p XAS of TiO</a:t>
            </a:r>
            <a:r>
              <a:rPr b="0" lang="en-GB" sz="2800" spc="-1" strike="noStrike" baseline="-25000">
                <a:solidFill>
                  <a:srgbClr val="0000ff"/>
                </a:solidFill>
                <a:latin typeface="Verdana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r" pos="547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Atomic multiplet ground states of 3d</a:t>
            </a:r>
            <a:r>
              <a:rPr b="0" lang="en-GB" sz="28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n</a:t>
            </a: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47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Using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TM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958680"/>
            <a:ext cx="9144000" cy="58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30000">
                <a:solidFill>
                  <a:srgbClr val="0000ff"/>
                </a:solidFill>
                <a:latin typeface="Arial"/>
              </a:rPr>
              <a:t>2S+1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L Azimuthal quantum number</a:t>
            </a:r>
            <a:br>
              <a:rPr sz="28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= |l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l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|l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l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+1|, …l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+l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d: l=2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L=0,1,2,3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 Spin quantum number</a:t>
            </a:r>
            <a:br>
              <a:rPr sz="28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= |s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s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|s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s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+1|, …s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+s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d: s=1/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S=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m</a:t>
            </a:r>
            <a:r>
              <a:rPr b="1" lang="en-US" sz="2800" spc="-1" strike="noStrike" u="sng" baseline="-25000">
                <a:solidFill>
                  <a:srgbClr val="0000ff"/>
                </a:solidFill>
                <a:uFillTx/>
                <a:latin typeface="Arial"/>
              </a:rPr>
              <a:t>L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 magnetic quantum number</a:t>
            </a:r>
            <a:br>
              <a:rPr sz="28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=-L, L+1, …L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d: m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2,1,0,-1,-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m</a:t>
            </a:r>
            <a:r>
              <a:rPr b="1" lang="en-US" sz="2800" spc="-1" strike="noStrike" u="sng" baseline="-25000">
                <a:solidFill>
                  <a:srgbClr val="0000ff"/>
                </a:solidFill>
                <a:uFillTx/>
                <a:latin typeface="Arial"/>
              </a:rPr>
              <a:t>S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 spin magnetic quantum number</a:t>
            </a:r>
            <a:br>
              <a:rPr sz="28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=-S, S+1,…, 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d: m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1/2, -1/2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erm Symbols (L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958680"/>
            <a:ext cx="914400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2S+1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4000" spc="-1" strike="noStrike" baseline="-25000">
                <a:solidFill>
                  <a:srgbClr val="0000ff"/>
                </a:solidFill>
                <a:latin typeface="Arial"/>
              </a:rPr>
              <a:t>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J Spin quantum number</a:t>
            </a:r>
            <a:br>
              <a:rPr sz="28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J= |L-S|, |L-S+1|, …, L+S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d: j=3/2,5/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j=0,1,2,3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t all combinations of L+S are possibl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m</a:t>
            </a:r>
            <a:r>
              <a:rPr b="1" lang="en-US" sz="2800" spc="-1" strike="noStrike" u="sng" baseline="-25000">
                <a:solidFill>
                  <a:srgbClr val="0000ff"/>
                </a:solidFill>
                <a:uFillTx/>
                <a:latin typeface="Arial"/>
              </a:rPr>
              <a:t>J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 total magnetic quantum number</a:t>
            </a:r>
            <a:br>
              <a:rPr sz="28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=-J, J+1, …J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5/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m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5/2,3/2,1/2,-1/2,-3/2,-5/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erm Symbols (LSJ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781680" y="2895480"/>
            <a:ext cx="175284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=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=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erm Symbo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3520" y="1143000"/>
          <a:ext cx="6095880" cy="109512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8960"/>
                <a:gridCol w="121932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457200" y="2971800"/>
          <a:ext cx="6095880" cy="1095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57200" y="4572000"/>
          <a:ext cx="6095880" cy="1095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6858000" y="4572000"/>
            <a:ext cx="175248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=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nfigurations of 2p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04920" y="762120"/>
          <a:ext cx="3657600" cy="10951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457200" y="914400"/>
          <a:ext cx="3657600" cy="1095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609480" y="1066680"/>
          <a:ext cx="3657600" cy="1095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762120" y="1219320"/>
          <a:ext cx="3657600" cy="10951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914400" y="1371600"/>
          <a:ext cx="3657600" cy="1095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066680" y="1523880"/>
          <a:ext cx="3657600" cy="1095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219320" y="1676520"/>
          <a:ext cx="3657600" cy="10951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371600" y="1828800"/>
          <a:ext cx="3657600" cy="1095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1523880" y="1981080"/>
          <a:ext cx="3657600" cy="1095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1676520" y="2133720"/>
          <a:ext cx="3657600" cy="10951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1828800" y="2286000"/>
          <a:ext cx="3657600" cy="1095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1981080" y="2438280"/>
          <a:ext cx="3657600" cy="10954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5105520" y="2971800"/>
          <a:ext cx="3657600" cy="109512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5105520" y="4191120"/>
          <a:ext cx="3657600" cy="10951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5105520" y="5410080"/>
          <a:ext cx="3657600" cy="10954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0" y="57240"/>
          <a:ext cx="8458200" cy="68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7240"/>
                    <a:ext cx="8458200" cy="68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6172200" y="5997600"/>
            <a:ext cx="297180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Hocking et al.  (JACS, 128, 104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Charge Transfer Multiplet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51600" y="4267080"/>
            <a:ext cx="51703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S term symbols: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, </a:t>
            </a: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, </a:t>
            </a: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SJ term symbo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676520" y="838080"/>
          <a:ext cx="4876560" cy="32860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1ff81"/>
                        </a:gs>
                        <a:gs pos="100000">
                          <a:srgbClr val="ff9b9b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b9b"/>
                        </a:gs>
                        <a:gs pos="50000">
                          <a:srgbClr val="0000ff"/>
                        </a:gs>
                        <a:gs pos="100000">
                          <a:srgbClr val="ff9b9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1ff81"/>
                        </a:gs>
                        <a:gs pos="100000">
                          <a:srgbClr val="ff9b9b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erm Symbols of 2p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34920" y="5638680"/>
            <a:ext cx="4331160" cy="787320"/>
          </a:xfrm>
          <a:prstGeom prst="rect">
            <a:avLst/>
          </a:prstGeom>
          <a:solidFill>
            <a:srgbClr val="81ff81"/>
          </a:solidFill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0000ff"/>
                </a:solidFill>
                <a:latin typeface="Arial"/>
              </a:rPr>
              <a:t>0   </a:t>
            </a: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0" lang="en-US" sz="4000" spc="-1" strike="noStrike" baseline="-25000">
                <a:solidFill>
                  <a:srgbClr val="0000ff"/>
                </a:solidFill>
                <a:latin typeface="Arial"/>
              </a:rPr>
              <a:t>2   </a:t>
            </a: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ff"/>
                </a:solidFill>
                <a:latin typeface="Arial"/>
              </a:rPr>
              <a:t>0  </a:t>
            </a: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914400"/>
            <a:ext cx="913752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etermine term symbols of all partly filled sh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ultiply term symbols of different sh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</a:t>
            </a:r>
            <a:r>
              <a:rPr b="0" lang="en-GB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D gives</a:t>
            </a:r>
            <a:r>
              <a:rPr b="0" lang="en-GB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 1,3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P,D,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S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Arial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=1/2, S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Arial"/>
                <a:ea typeface="Times New Roman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=1/2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&gt;&gt; S=0 o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L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Arial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= 1, L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Arial"/>
                <a:ea typeface="Times New Roman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= 2 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&gt;&gt; L=3 or 2 o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erm Symbo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-685800" y="609480"/>
            <a:ext cx="9829800" cy="59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etermine term symbol of ground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aximum 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aximum 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aximum J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if shell is more than half-full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33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 has </a:t>
            </a:r>
            <a:r>
              <a:rPr b="0" lang="en-US" sz="3200" spc="-1" strike="noStrike" baseline="30000">
                <a:solidFill>
                  <a:srgbClr val="ff003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Arial"/>
              </a:rPr>
              <a:t>3/2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 ground state           3d</a:t>
            </a:r>
            <a:r>
              <a:rPr b="0" lang="en-US" sz="3200" spc="-1" strike="noStrike" baseline="30000">
                <a:solidFill>
                  <a:srgbClr val="ff003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: </a:t>
            </a:r>
            <a:r>
              <a:rPr b="0" lang="en-US" sz="3200" spc="-1" strike="noStrike" baseline="30000">
                <a:solidFill>
                  <a:srgbClr val="ff0033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33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 has </a:t>
            </a:r>
            <a:r>
              <a:rPr b="0" lang="en-US" sz="3200" spc="-1" strike="noStrike" baseline="30000">
                <a:solidFill>
                  <a:srgbClr val="ff003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Arial"/>
              </a:rPr>
              <a:t>5/2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 ground state           3d</a:t>
            </a:r>
            <a:r>
              <a:rPr b="0" lang="en-US" sz="3200" spc="-1" strike="noStrike" baseline="30000">
                <a:solidFill>
                  <a:srgbClr val="ff0033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: </a:t>
            </a:r>
            <a:r>
              <a:rPr b="0" lang="en-US" sz="3200" spc="-1" strike="noStrike" baseline="30000">
                <a:solidFill>
                  <a:srgbClr val="ff0033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und’s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 XAS of La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914400"/>
            <a:ext cx="9137520" cy="55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La in La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O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can be described as La</a:t>
            </a:r>
            <a:r>
              <a:rPr b="0" lang="en-US" sz="3200" spc="-1" strike="noStrike" baseline="30000">
                <a:solidFill>
                  <a:srgbClr val="0000ff"/>
                </a:solidFill>
                <a:latin typeface="Verdana"/>
              </a:rPr>
              <a:t>3+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Ground state is 4f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Dipole transition 4f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0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3d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9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4f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Ground state symmetry: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S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Verdana"/>
                <a:ea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Final state symmetry: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D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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F g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P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D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F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G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H</a:t>
            </a:r>
            <a:r>
              <a:rPr b="0" lang="en-GB" sz="32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and</a:t>
            </a:r>
            <a:r>
              <a:rPr b="0" lang="en-GB" sz="32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 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P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D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F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G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H</a:t>
            </a:r>
            <a:r>
              <a:rPr b="0" lang="en-GB" sz="32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 XAS of La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914400"/>
            <a:ext cx="91375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Final state symmetries:</a:t>
            </a:r>
            <a:br>
              <a:rPr sz="3200"/>
            </a:b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  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 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P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D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F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G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H</a:t>
            </a:r>
            <a:r>
              <a:rPr b="0" lang="en-GB" sz="32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and</a:t>
            </a:r>
            <a:r>
              <a:rPr b="0" lang="en-GB" sz="32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 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P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D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F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G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H</a:t>
            </a:r>
            <a:r>
              <a:rPr b="0" lang="en-GB" sz="32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ransition &lt;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S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Verdana"/>
                <a:ea typeface="Times New Roman"/>
              </a:rPr>
              <a:t>0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|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J=+1|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P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P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Verdana"/>
                <a:ea typeface="Times New Roman"/>
              </a:rPr>
              <a:t>1 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D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  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3 peaks in the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 XAS of La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0" y="685800"/>
            <a:ext cx="9144000" cy="5753160"/>
            <a:chOff x="0" y="685800"/>
            <a:chExt cx="9144000" cy="5753160"/>
          </a:xfrm>
        </p:grpSpPr>
        <p:sp>
          <p:nvSpPr>
            <p:cNvPr id="252" name=""/>
            <p:cNvSpPr/>
            <p:nvPr/>
          </p:nvSpPr>
          <p:spPr>
            <a:xfrm>
              <a:off x="0" y="685800"/>
              <a:ext cx="9144000" cy="5753160"/>
            </a:xfrm>
            <a:prstGeom prst="rect">
              <a:avLst/>
            </a:prstGeom>
            <a:solidFill>
              <a:srgbClr val="eaeaea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8640" y="1208520"/>
              <a:ext cx="2011320" cy="69732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2la3.rc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8640" y="5218560"/>
              <a:ext cx="2011320" cy="69732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2la3.pl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35040" y="1208520"/>
              <a:ext cx="2194560" cy="69732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2la3.or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08960" y="1208520"/>
              <a:ext cx="2560320" cy="697320"/>
            </a:xfrm>
            <a:custGeom>
              <a:avLst/>
              <a:gdLst>
                <a:gd name="textAreaLeft" fmla="*/ 0 w 2560320"/>
                <a:gd name="textAreaRight" fmla="*/ 2560680 w 2560320"/>
                <a:gd name="textAreaTop" fmla="*/ 0 h 697320"/>
                <a:gd name="textAreaBottom" fmla="*/ 697680 h 69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rcg2 als2la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4389120" y="1905840"/>
              <a:ext cx="1645920" cy="31381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08960" y="5218560"/>
              <a:ext cx="2560320" cy="697320"/>
            </a:xfrm>
            <a:custGeom>
              <a:avLst/>
              <a:gdLst>
                <a:gd name="textAreaLeft" fmla="*/ 0 w 2560320"/>
                <a:gd name="textAreaRight" fmla="*/ 2560680 w 2560320"/>
                <a:gd name="textAreaTop" fmla="*/ 0 h 697320"/>
                <a:gd name="textAreaBottom" fmla="*/ 697680 h 69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plo2 als2la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35040" y="5218560"/>
              <a:ext cx="2011320" cy="69732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2la3.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2la3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1676520"/>
            <a:ext cx="11201400" cy="27709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1    0   00    4    4    1    1 SHELL00000000 SPIN00000000 INTER8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800     0000000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2 1 12 1 10         00      9 00000000 0 8065.4790 .00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D10  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D 9  F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La3+ 3D10 4F00     1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.000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0.0000    0.0000    0.0000    0.0000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La3+ 3D09 4F01     8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841.4990    6.7992    0.0922    7.0633    3.1673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4.7234    2.7614    1.90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La3+ 3D10 4F00      Dy3+ 3D09 4F01        -0.24802( 3D//R1// 4F) 1.000HR  34-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4572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Run 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2la3.rcg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 with 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rcg2 als2la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 XAS of La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2la3.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1676520"/>
            <a:ext cx="13411080" cy="47574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. OF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  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J     JP     J-JP   TOTAL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KLAM    IL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0.0   1.0       3       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3000  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                                                   ELEC DIP SPECTRUM     (ENERGIES IN UNITS OF  8065.5 CM-1 =    1.00 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DY3+ 3D10 4F00       ---      DY3+ 3D09 4F01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E      J   CONF              EP      JP  CONFP          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LTA E   LAMBDA(A) </a:t>
            </a:r>
            <a:r>
              <a:rPr b="0" i="1" lang="en-GB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/PMAX**2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GF    LOG GF GA(SEC-1) CF,BR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</a:t>
            </a:r>
            <a:r>
              <a:rPr b="0" lang="en-GB" sz="1800" spc="-1" strike="noStrike">
                <a:solidFill>
                  <a:srgbClr val="00ff00"/>
                </a:solidFill>
                <a:latin typeface="Courier New"/>
                <a:ea typeface="Times New Roman"/>
              </a:rPr>
              <a:t>0.0000  0.0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1 </a:t>
            </a:r>
            <a:r>
              <a:rPr b="0" lang="en-GB" sz="1800" spc="-1" strike="noStrike">
                <a:solidFill>
                  <a:srgbClr val="00ff00"/>
                </a:solidFill>
                <a:latin typeface="Courier New"/>
                <a:ea typeface="Times New Roman"/>
              </a:rPr>
              <a:t>(1S) 1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833.2133  1.0  1 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(2D) 3P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i="1" lang="en-GB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833.2133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14.8804 </a:t>
            </a:r>
            <a:r>
              <a:rPr b="0" i="1" lang="en-GB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0.00690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0.0087  -2.062 2.611E+11  1.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  0.0000  0.0  1 (1S) 1S      837.4330  1.0  1 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(2D) 3D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i="1" lang="en-GB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837.4330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14.8054 </a:t>
            </a:r>
            <a:r>
              <a:rPr b="0" i="1" lang="en-GB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0.80480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1.0157   0.007 3.091E+13  1.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    0.0000  0.0  1 (1S) 1S      854.0414  1.0  1 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(2D) 1P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i="1" lang="en-GB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854.0414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14.5175 </a:t>
            </a:r>
            <a:r>
              <a:rPr b="0" i="1" lang="en-GB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1.18829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1.5294   0.185 4.840E+13  1.0000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 XAS of La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2la3.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1676520"/>
            <a:ext cx="13411080" cy="33858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ostscript la3.p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ortrai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energy_range 830 86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olumns_per_pag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rows_per_pag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La 3dX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lorentzian 0.2 999. range 0 8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lorentzian 0.4 9.   range 845 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gaussian 0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rcg9 la3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end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 XAS of La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 XAS of La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6716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7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6383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re Level Spectroscop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6553080" cy="63975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d XAS of La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97280" y="5873760"/>
            <a:ext cx="3524400" cy="94716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Thole et 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PRB 32, 5107 (198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5943600" cy="57326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-685800" y="182880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III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on in Nd meta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round state: 4f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inal state:  3d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4f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97280" y="5873760"/>
            <a:ext cx="3524400" cy="94716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Thole et 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PRB 32, 5107 (198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 XAS of 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-762120" y="1143000"/>
            <a:ext cx="9906120" cy="54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IV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on in TiO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round state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inal state: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pole transition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-sym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configuration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, 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j=0</a:t>
            </a:r>
            <a:br>
              <a:rPr sz="2800"/>
            </a:b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-configuration: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 =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,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DF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   j’=0,1,2,3,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-transition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j=+1,0,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round state symmetry: 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ransition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two possible final states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,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609480"/>
            <a:ext cx="9144000" cy="5715000"/>
          </a:xfrm>
          <a:prstGeom prst="rect">
            <a:avLst/>
          </a:prstGeom>
          <a:solidFill>
            <a:srgbClr val="eaeaea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9360" y="3206880"/>
            <a:ext cx="2011320" cy="693720"/>
          </a:xfrm>
          <a:prstGeom prst="flowChartAlternateProcess">
            <a:avLst/>
          </a:prstGeom>
          <a:solidFill>
            <a:srgbClr val="ffff99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als3ti4.rc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9360" y="5111640"/>
            <a:ext cx="2011320" cy="693720"/>
          </a:xfrm>
          <a:prstGeom prst="flowChartAlternateProcess">
            <a:avLst/>
          </a:prstGeom>
          <a:solidFill>
            <a:srgbClr val="ffff99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als3ti4.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35760" y="3206880"/>
            <a:ext cx="2011320" cy="693720"/>
          </a:xfrm>
          <a:prstGeom prst="flowChartAlternateProcess">
            <a:avLst/>
          </a:prstGeom>
          <a:solidFill>
            <a:srgbClr val="ffff99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als3ti4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08240" y="3206880"/>
            <a:ext cx="2560680" cy="693720"/>
          </a:xfrm>
          <a:custGeom>
            <a:avLst/>
            <a:gdLst>
              <a:gd name="textAreaLeft" fmla="*/ 0 w 2560680"/>
              <a:gd name="textAreaRight" fmla="*/ 2561040 w 2560680"/>
              <a:gd name="textAreaTop" fmla="*/ 0 h 693720"/>
              <a:gd name="textAreaBottom" fmla="*/ 694080 h 69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rcg2 als3ti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08240" y="5111640"/>
            <a:ext cx="2560680" cy="693720"/>
          </a:xfrm>
          <a:custGeom>
            <a:avLst/>
            <a:gdLst>
              <a:gd name="textAreaLeft" fmla="*/ 0 w 2560680"/>
              <a:gd name="textAreaRight" fmla="*/ 2561040 w 2560680"/>
              <a:gd name="textAreaTop" fmla="*/ 0 h 693720"/>
              <a:gd name="textAreaBottom" fmla="*/ 694080 h 69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plo2 als3ti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35760" y="5111640"/>
            <a:ext cx="2011320" cy="693720"/>
          </a:xfrm>
          <a:prstGeom prst="flowChartAlternateProcess">
            <a:avLst/>
          </a:prstGeom>
          <a:solidFill>
            <a:srgbClr val="ffff99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als3ti4.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49360" y="1128600"/>
            <a:ext cx="7680240" cy="1847880"/>
            <a:chOff x="549360" y="1128600"/>
            <a:chExt cx="7680240" cy="1847880"/>
          </a:xfrm>
        </p:grpSpPr>
        <p:sp>
          <p:nvSpPr>
            <p:cNvPr id="298" name=""/>
            <p:cNvSpPr/>
            <p:nvPr/>
          </p:nvSpPr>
          <p:spPr>
            <a:xfrm>
              <a:off x="549360" y="1128600"/>
              <a:ext cx="2011320" cy="69372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3ti4.rc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35760" y="1128600"/>
              <a:ext cx="2193840" cy="69372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3ti4.rc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08240" y="1128600"/>
              <a:ext cx="2560680" cy="693720"/>
            </a:xfrm>
            <a:custGeom>
              <a:avLst/>
              <a:gdLst>
                <a:gd name="textAreaLeft" fmla="*/ 0 w 2560680"/>
                <a:gd name="textAreaRight" fmla="*/ 2561040 w 256068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rcn2 als3ti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070760" y="1936800"/>
              <a:ext cx="0" cy="3477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1584360" y="2284560"/>
              <a:ext cx="548640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84360" y="2284560"/>
              <a:ext cx="0" cy="6919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413160" y="2284560"/>
              <a:ext cx="2012760" cy="69192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re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3ti4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1676520"/>
            <a:ext cx="13335120" cy="13136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22 -9    2   10  1.0    5.E-06    1.E-09-2   130   1.0  0.65  0.0 0.50 0.0  .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22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Ti4+ 2p06 3d00        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2P06 3D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22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Ti4+ 2p05 3d01        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2P05 3D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3526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Run 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3ti4.rcn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 with 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rc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n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2 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3ti4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give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 als3ti4.r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Only 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atomic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3ti4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676520"/>
            <a:ext cx="13335120" cy="27709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1    0   00    4    4    1    1 SHELL00000000 SPIN00000000 INTER8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800     0000000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2 1 12 1 10         00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9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00000000 0 8065.4790 .00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6  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5  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1    0.0000    0.0000    0.0000    0.0000    0.0000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5 3d01     6  464.8110    3.7762    0.0322    6.3023    4.6284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2.63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 Ti4+ 2p05 3d01        -0.26267( 2P//R1// 3D) 1.000HR  38-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276360" y="2438280"/>
            <a:ext cx="1447560" cy="266724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Change 9 to 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to print out the energy matrix and eigen v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ll final state interactions to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1676520"/>
            <a:ext cx="13335120" cy="27709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1    0   00    4    4    1    1 SHELL00000000 SPIN00000000 INTER8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800     0000000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2 1 12 1 10         00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9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00000000 0 8065.4790 .00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6  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5  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1    0.0000    0.0000    0.0000    0.0000    0.0000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5 3d01     6  464.8110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.000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2    0.0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0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2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.000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.000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4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.000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 Ti4+ 2p05 3d01        -0.26267( 2P//R1// 3D) 1.000HR  38-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276720" y="3505320"/>
            <a:ext cx="914400" cy="160020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90720" y="5181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Change to 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641840" y="533520"/>
            <a:ext cx="4502160" cy="58672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4408560" cy="59245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 XAS calc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83080" y="685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3ti4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org            (all z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1676520"/>
            <a:ext cx="13335120" cy="20408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ENERGY MATRIX   (    LS COUPLING)       J= 1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1 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2P) 3D  (2P) 3P  (2P) 1P 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2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(2P) 3D  1   464.811    0.000    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(2P) 3P  2     0.000  464.811    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(2P) 1P  3     0.000    0.000  464.8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4267080"/>
            <a:ext cx="13335120" cy="20408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IGENVECTORS   (    LS COUPL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P05 3D   P05 3D   P05 3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2P) 3D  (2P) 3P  (2P) 1P 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(2P) 3D  1   1.00000  0.00000  0.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(2P) 3P  2   0.00000  1.00000  0.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(2P) 1P  3   0.00000  0.00000  1.00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34120" y="609480"/>
            <a:ext cx="2674800" cy="38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7200" y="4800600"/>
                <a:ext cx="822960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A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r>
                                      <m:t xml:space="preserve">r</m:t>
                                    </m:r>
                                  </m:e>
                                </m:d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ℏ</m:t>
                        </m:r>
                        <m:r>
                          <m:t xml:space="preserve">ω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1143000" y="609480"/>
            <a:ext cx="3429000" cy="3821760"/>
          </a:xfrm>
          <a:prstGeom prst="rect">
            <a:avLst/>
          </a:prstGeom>
          <a:noFill/>
          <a:ln cap="sq"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Excitations of </a:t>
            </a: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ore electrons </a:t>
            </a: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o empty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XAS spectrum </a:t>
            </a: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s given by 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Fermi Golden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X-ray Absorption Spectrosco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9907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Include 2p spin-orbit coupling  (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L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2p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1676520"/>
            <a:ext cx="13335120" cy="27709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1    0   00    4    4    1    1 SHELL00000000 SPIN00000000 INTER8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800     0000000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2 1 12 1 10         00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9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00000000 0 8065.4790 .00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6  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5  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1    0.0000    0.0000    0.0000    0.0000    0.0000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5 3d01     6  464.8110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3.776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2    </a:t>
            </a:r>
            <a:r>
              <a:rPr b="0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.0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0</a:t>
            </a:r>
            <a:r>
              <a:rPr b="0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2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.000</a:t>
            </a:r>
            <a:r>
              <a:rPr b="0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.000</a:t>
            </a:r>
            <a:r>
              <a:rPr b="0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4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.000</a:t>
            </a:r>
            <a:r>
              <a:rPr b="0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 Ti4+ 2p05 3d01        -0.26267( 2P//R1// 3D) 1.000HR  38-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276720" y="3505320"/>
            <a:ext cx="914400" cy="160020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5181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Change back to 3.7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641840" y="533520"/>
            <a:ext cx="4502160" cy="58672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4408560" cy="59245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 XAS calc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83080" y="685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91680" y="3733920"/>
            <a:ext cx="90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L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9907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3ti4b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org            (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L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2p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1676520"/>
            <a:ext cx="13335120" cy="17974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ENERGY MATRIX   (    LS COUPLING)       J= 1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2P) 3D  (2P) 3P  (2P) 1P 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   2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D  1   465.755    1.635    2.3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P  2     1.635  463.867    1.3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(2P) 1P  3     2.312    1.335  464.8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4724280"/>
            <a:ext cx="13335120" cy="15541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EIGENVECTORS   (    LS COUPL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    P05 3D   P05 3D   P05 3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2P) 1P  (2P) 3P  (2P) 3D 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D  1  -0.67098  0.22312 -0.707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P  2   0.12977 -0.90360 -0.408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 (2P) 1P  3   0.73003  0.36569 -0.57734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3733920"/>
            <a:ext cx="13335120" cy="5806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EIGENVALUES      (J= 1.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</a:t>
            </a:r>
            <a:r>
              <a:rPr b="0" lang="en-GB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62.923  462.923  468.587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38720" y="3809880"/>
            <a:ext cx="39052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=5.664 = 3/2*LS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.73003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0.36569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0.66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0.57734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0.3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Include Slater-integrals (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F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, G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1676520"/>
            <a:ext cx="13335120" cy="27709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1    0   00    4    4    1    1 SHELL00000000 SPIN00000000 INTER8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800     0000000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2 1 12 1 10         00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9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00000000 0 8065.4790 .00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6  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5  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1    0.0000    0.0000    0.0000    0.0000    0.0000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5 3d01     6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464.8110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.000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2    0.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02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6.3023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4.6284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2.63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 Ti4+ 2p05 3d01        -0.26267( 2P//R1// 3D) 1.000HR  38-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276720" y="3505320"/>
            <a:ext cx="914400" cy="160020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990720" y="5181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Set the spin-orbit couplings to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641840" y="533520"/>
            <a:ext cx="4502160" cy="58672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4408560" cy="59245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 XAS calc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83080" y="685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91680" y="3733920"/>
            <a:ext cx="90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L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20480" y="7621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F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, G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3ti4c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org                     (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F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, G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1676520"/>
            <a:ext cx="13335120" cy="17974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ENERGY MATRIX   (    LS COUPLING)       J= 1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2P) 3D  (2P) 3P  (2P) 1P 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   2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D  1   465.482    0.000    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P  2     0.000  463.466    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(2P) 1P  3     0.000    0.000  468.4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4724280"/>
            <a:ext cx="13335120" cy="15541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EIGENVECTORS   (    LS COUPL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    P05 3D   P05 3D   P05 3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2P) 3P  (2P) 3D  (2P) 1P 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D  1   0.00000  1.00000  0.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P  2   1.00000  0.00000  0.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(2P) 1P  3   0.00000  0.00000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.00000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3733920"/>
            <a:ext cx="13335120" cy="5806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EIGENVALUES      (J= 1.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</a:t>
            </a:r>
            <a:r>
              <a:rPr b="0" lang="en-GB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63.466  465.482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68.402</a:t>
            </a:r>
            <a:r>
              <a:rPr b="0" lang="en-GB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9907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Include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2p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F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G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1676520"/>
            <a:ext cx="13335120" cy="27709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1    0   00    4    4    1    1 SHELL00000000 SPIN00000000 INTER8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800     0000000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2 1 12 1 10         00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9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00000000 0 8065.4790 .00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6  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5  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1    0.0000    0.0000    0.0000    0.0000    0.0000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5 3d01     6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464.8110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3.776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0.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02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6.3023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4.6284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2.63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 Ti4+ 2p05 3d01        -0.26267( 2P//R1// 3D) 1.000HR  38-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4572000" y="3505320"/>
            <a:ext cx="914400" cy="160020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90720" y="5181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Only the 3d spin-orbit coupling is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9907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3ti4d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org                     (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L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2p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F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, G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1676520"/>
            <a:ext cx="13335120" cy="17974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ENERGY MATRIX   (    LS COUPLING)       J= 1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2P) 3D  (2P) 3P  (2P) 1P 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   2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D  1   466.426    1.635    2.3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P  2     1.635  462.522    1.3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(2P) 1P  3     2.312    1.335  468.4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4724280"/>
            <a:ext cx="13335120" cy="15541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EIGENVECTORS   (    LS COUPL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    P05 3D   P05 3D   P05 3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2P) 3P  (2P) 3D  (2P) 1P 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D  1   0.29681 -0.77568  0.556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P  2  -0.95074 -0.18539  0.248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 (2P) 1P  3   0.08946  0.60328  0.79250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3733920"/>
            <a:ext cx="13335120" cy="5806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EIGENVALUES      (J= 1.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             </a:t>
            </a:r>
            <a:r>
              <a:rPr b="0" lang="en-GB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61.886  465.019  470.44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4641840" y="533520"/>
            <a:ext cx="4502160" cy="58672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4408560" cy="59245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 XAS calc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83080" y="685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91680" y="3733920"/>
            <a:ext cx="90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L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20480" y="7621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F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, G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54000" y="4267080"/>
            <a:ext cx="90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L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74160" y="37339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F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, G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371600" y="927000"/>
            <a:ext cx="5587920" cy="59310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XAS experiment (SrTi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990720"/>
            <a:ext cx="914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Fermi Golden 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|</a:t>
            </a: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295c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295c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295cff"/>
                </a:solidFill>
                <a:latin typeface="Arial"/>
              </a:rPr>
              <a:t>dipole</a:t>
            </a: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| </a:t>
            </a:r>
            <a:r>
              <a:rPr b="0" lang="en-US" sz="3200" spc="-1" strike="noStrike">
                <a:solidFill>
                  <a:srgbClr val="295c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295c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=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514600"/>
            <a:ext cx="914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Single electron (excitation) approxim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|</a:t>
            </a: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295c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295cff"/>
                </a:solidFill>
                <a:latin typeface="Arial"/>
              </a:rPr>
              <a:t>empty</a:t>
            </a: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295cff"/>
                </a:solidFill>
                <a:latin typeface="Arial"/>
              </a:rPr>
              <a:t>dipole</a:t>
            </a: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| </a:t>
            </a:r>
            <a:r>
              <a:rPr b="0" lang="en-US" sz="3200" spc="-1" strike="noStrike">
                <a:solidFill>
                  <a:srgbClr val="295c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295cff"/>
                </a:solidFill>
                <a:latin typeface="Arial"/>
              </a:rPr>
              <a:t>core</a:t>
            </a: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038480"/>
            <a:ext cx="91440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295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Neglect &lt;vv’|1/r|vv’&gt; (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‘many body effects’</a:t>
            </a: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295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Neglect &lt;cv|1/r|cv&gt; (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‘multiplet effects’</a:t>
            </a: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X-ray Absorption Spectrosco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N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 XAS calc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-5032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0" y="457200"/>
            <a:ext cx="9143280" cy="6010200"/>
            <a:chOff x="0" y="457200"/>
            <a:chExt cx="9143280" cy="6010200"/>
          </a:xfrm>
        </p:grpSpPr>
        <p:grpSp>
          <p:nvGrpSpPr>
            <p:cNvPr id="392" name=""/>
            <p:cNvGrpSpPr/>
            <p:nvPr/>
          </p:nvGrpSpPr>
          <p:grpSpPr>
            <a:xfrm>
              <a:off x="9720" y="461160"/>
              <a:ext cx="9121680" cy="6001560"/>
              <a:chOff x="9720" y="461160"/>
              <a:chExt cx="9121680" cy="6001560"/>
            </a:xfrm>
          </p:grpSpPr>
          <p:grpSp>
            <p:nvGrpSpPr>
              <p:cNvPr id="393" name=""/>
              <p:cNvGrpSpPr/>
              <p:nvPr/>
            </p:nvGrpSpPr>
            <p:grpSpPr>
              <a:xfrm>
                <a:off x="9720" y="461160"/>
                <a:ext cx="2442960" cy="545400"/>
                <a:chOff x="9720" y="461160"/>
                <a:chExt cx="2442960" cy="54540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156600" y="461160"/>
                  <a:ext cx="214848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Transit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9720" y="461160"/>
                  <a:ext cx="244296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2453400" y="461160"/>
                <a:ext cx="1756080" cy="545400"/>
                <a:chOff x="2453400" y="461160"/>
                <a:chExt cx="1756080" cy="54540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2600280" y="461160"/>
                  <a:ext cx="14619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Groun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453400" y="461160"/>
                  <a:ext cx="175608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210560" y="461160"/>
                <a:ext cx="2227320" cy="545400"/>
                <a:chOff x="4210560" y="461160"/>
                <a:chExt cx="2227320" cy="54540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4356720" y="461160"/>
                  <a:ext cx="193392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Transiti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210560" y="461160"/>
                  <a:ext cx="222732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6438960" y="461160"/>
                <a:ext cx="2692440" cy="545400"/>
                <a:chOff x="6438960" y="461160"/>
                <a:chExt cx="2692440" cy="54540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6585120" y="461160"/>
                  <a:ext cx="239904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Term Symbol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438960" y="461160"/>
                  <a:ext cx="269244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9720" y="1006560"/>
                <a:ext cx="2442960" cy="545400"/>
                <a:chOff x="9720" y="1006560"/>
                <a:chExt cx="2442960" cy="54540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156600" y="1006560"/>
                  <a:ext cx="214848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0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p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9720" y="1006560"/>
                  <a:ext cx="244296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2453400" y="1006560"/>
                <a:ext cx="1756080" cy="545400"/>
                <a:chOff x="2453400" y="1006560"/>
                <a:chExt cx="1756080" cy="5454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2600280" y="1006560"/>
                  <a:ext cx="14619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S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453400" y="1006560"/>
                  <a:ext cx="175608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4210560" y="1006560"/>
                <a:ext cx="2227320" cy="545400"/>
                <a:chOff x="4210560" y="1006560"/>
                <a:chExt cx="2227320" cy="54540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4356720" y="1006560"/>
                  <a:ext cx="193392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210560" y="1006560"/>
                  <a:ext cx="222732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6438960" y="1006560"/>
                <a:ext cx="2692440" cy="545400"/>
                <a:chOff x="6438960" y="1006560"/>
                <a:chExt cx="2692440" cy="54540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6585120" y="1006560"/>
                  <a:ext cx="239904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438960" y="1006560"/>
                  <a:ext cx="269244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9720" y="1551960"/>
                <a:ext cx="2442960" cy="545760"/>
                <a:chOff x="9720" y="1551960"/>
                <a:chExt cx="2442960" cy="54576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156600" y="1551960"/>
                  <a:ext cx="214848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p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9720" y="1551960"/>
                  <a:ext cx="2442960" cy="5457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2453400" y="1551960"/>
                <a:ext cx="1756080" cy="545760"/>
                <a:chOff x="2453400" y="1551960"/>
                <a:chExt cx="1756080" cy="54576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2600280" y="1551960"/>
                  <a:ext cx="146196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D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/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453400" y="1551960"/>
                  <a:ext cx="1756080" cy="5457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4210560" y="1551960"/>
                <a:ext cx="2227320" cy="545760"/>
                <a:chOff x="4210560" y="1551960"/>
                <a:chExt cx="2227320" cy="54576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4356720" y="1551960"/>
                  <a:ext cx="193392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210560" y="1551960"/>
                  <a:ext cx="2227320" cy="5457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6438960" y="1551960"/>
                <a:ext cx="2692440" cy="545760"/>
                <a:chOff x="6438960" y="1551960"/>
                <a:chExt cx="2692440" cy="54576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6585120" y="1551960"/>
                  <a:ext cx="239904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4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438960" y="1551960"/>
                  <a:ext cx="2692440" cy="5457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9720" y="2098080"/>
                <a:ext cx="2442960" cy="545400"/>
                <a:chOff x="9720" y="2098080"/>
                <a:chExt cx="2442960" cy="54540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156600" y="2098080"/>
                  <a:ext cx="214848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p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9720" y="2098080"/>
                  <a:ext cx="244296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2453400" y="2098080"/>
                <a:ext cx="1756080" cy="545400"/>
                <a:chOff x="2453400" y="2098080"/>
                <a:chExt cx="1756080" cy="54540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2600280" y="2098080"/>
                  <a:ext cx="14619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F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453400" y="2098080"/>
                  <a:ext cx="175608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210560" y="2098080"/>
                <a:ext cx="2227320" cy="545400"/>
                <a:chOff x="4210560" y="2098080"/>
                <a:chExt cx="2227320" cy="54540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4356720" y="2098080"/>
                  <a:ext cx="193392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6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210560" y="2098080"/>
                  <a:ext cx="222732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6438960" y="2098080"/>
                <a:ext cx="2692440" cy="545400"/>
                <a:chOff x="6438960" y="2098080"/>
                <a:chExt cx="2692440" cy="54540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6585120" y="2098080"/>
                  <a:ext cx="239904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438960" y="2098080"/>
                  <a:ext cx="269244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9720" y="2643480"/>
                <a:ext cx="2442960" cy="545400"/>
                <a:chOff x="9720" y="2643480"/>
                <a:chExt cx="2442960" cy="54540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156600" y="2643480"/>
                  <a:ext cx="214848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p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9720" y="2643480"/>
                  <a:ext cx="244296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2453400" y="2643480"/>
                <a:ext cx="1756080" cy="545400"/>
                <a:chOff x="2453400" y="2643480"/>
                <a:chExt cx="1756080" cy="54540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2600280" y="2643480"/>
                  <a:ext cx="14619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4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F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/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453400" y="2643480"/>
                  <a:ext cx="175608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4210560" y="2643480"/>
                <a:ext cx="2227320" cy="545400"/>
                <a:chOff x="4210560" y="2643480"/>
                <a:chExt cx="2227320" cy="54540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356720" y="2643480"/>
                  <a:ext cx="193392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9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210560" y="2643480"/>
                  <a:ext cx="222732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6438960" y="2643480"/>
                <a:ext cx="2692440" cy="545400"/>
                <a:chOff x="6438960" y="2643480"/>
                <a:chExt cx="2692440" cy="5454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6585120" y="2643480"/>
                  <a:ext cx="239904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8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438960" y="2643480"/>
                  <a:ext cx="269244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9720" y="3189240"/>
                <a:ext cx="2442960" cy="545400"/>
                <a:chOff x="9720" y="3189240"/>
                <a:chExt cx="2442960" cy="54540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156600" y="3189240"/>
                  <a:ext cx="214848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4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p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9720" y="3189240"/>
                  <a:ext cx="244296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2453400" y="3189240"/>
                <a:ext cx="1756080" cy="545400"/>
                <a:chOff x="2453400" y="3189240"/>
                <a:chExt cx="1756080" cy="54540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600280" y="3189240"/>
                  <a:ext cx="14619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D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453400" y="3189240"/>
                  <a:ext cx="175608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4210560" y="3189240"/>
                <a:ext cx="2227320" cy="545400"/>
                <a:chOff x="4210560" y="3189240"/>
                <a:chExt cx="2227320" cy="54540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4356720" y="3189240"/>
                  <a:ext cx="193392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210560" y="3189240"/>
                  <a:ext cx="222732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6438960" y="3189240"/>
                <a:ext cx="2692440" cy="545400"/>
                <a:chOff x="6438960" y="3189240"/>
                <a:chExt cx="2692440" cy="54540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6585120" y="3189240"/>
                  <a:ext cx="239904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0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438960" y="3189240"/>
                  <a:ext cx="269244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9720" y="3734640"/>
                <a:ext cx="2442960" cy="545400"/>
                <a:chOff x="9720" y="3734640"/>
                <a:chExt cx="2442960" cy="54540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156600" y="3734640"/>
                  <a:ext cx="214848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p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9720" y="3734640"/>
                  <a:ext cx="244296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2453400" y="3734640"/>
                <a:ext cx="1756080" cy="545400"/>
                <a:chOff x="2453400" y="3734640"/>
                <a:chExt cx="1756080" cy="54540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2600280" y="3734640"/>
                  <a:ext cx="14619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6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S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/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453400" y="3734640"/>
                  <a:ext cx="175608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4210560" y="3734640"/>
                <a:ext cx="2227320" cy="545400"/>
                <a:chOff x="4210560" y="3734640"/>
                <a:chExt cx="2227320" cy="54540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4356720" y="3734640"/>
                  <a:ext cx="193392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210560" y="3734640"/>
                  <a:ext cx="222732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6438960" y="3734640"/>
                <a:ext cx="2692440" cy="545400"/>
                <a:chOff x="6438960" y="3734640"/>
                <a:chExt cx="2692440" cy="54540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6585120" y="3734640"/>
                  <a:ext cx="239904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8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438960" y="3734640"/>
                  <a:ext cx="269244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9720" y="4280400"/>
                <a:ext cx="2442960" cy="545400"/>
                <a:chOff x="9720" y="4280400"/>
                <a:chExt cx="2442960" cy="54540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156600" y="4280400"/>
                  <a:ext cx="214848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6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p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9720" y="4280400"/>
                  <a:ext cx="244296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2453400" y="4280400"/>
                <a:ext cx="1756080" cy="545400"/>
                <a:chOff x="2453400" y="4280400"/>
                <a:chExt cx="1756080" cy="5454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2600280" y="4280400"/>
                  <a:ext cx="14619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D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453400" y="4280400"/>
                  <a:ext cx="175608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4210560" y="4280400"/>
                <a:ext cx="2227320" cy="545400"/>
                <a:chOff x="4210560" y="4280400"/>
                <a:chExt cx="2227320" cy="54540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4356720" y="4280400"/>
                  <a:ext cx="193392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6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210560" y="4280400"/>
                  <a:ext cx="222732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6438960" y="4280400"/>
                <a:ext cx="2692440" cy="545400"/>
                <a:chOff x="6438960" y="4280400"/>
                <a:chExt cx="2692440" cy="54540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6585120" y="4280400"/>
                  <a:ext cx="239904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438960" y="4280400"/>
                  <a:ext cx="269244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9720" y="4825800"/>
                <a:ext cx="2442960" cy="545400"/>
                <a:chOff x="9720" y="4825800"/>
                <a:chExt cx="2442960" cy="54540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156600" y="4825800"/>
                  <a:ext cx="214848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7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p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9720" y="4825800"/>
                  <a:ext cx="244296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2453400" y="4825800"/>
                <a:ext cx="1756080" cy="545400"/>
                <a:chOff x="2453400" y="4825800"/>
                <a:chExt cx="1756080" cy="54540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2600280" y="4825800"/>
                  <a:ext cx="14619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4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F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9/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453400" y="4825800"/>
                  <a:ext cx="175608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4210560" y="4825800"/>
                <a:ext cx="2227320" cy="545400"/>
                <a:chOff x="4210560" y="4825800"/>
                <a:chExt cx="2227320" cy="54540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4356720" y="4825800"/>
                  <a:ext cx="193392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4210560" y="4825800"/>
                  <a:ext cx="222732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6438960" y="4825800"/>
                <a:ext cx="2692440" cy="545400"/>
                <a:chOff x="6438960" y="4825800"/>
                <a:chExt cx="2692440" cy="54540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6585120" y="4825800"/>
                  <a:ext cx="239904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4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438960" y="4825800"/>
                  <a:ext cx="269244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9720" y="5371560"/>
                <a:ext cx="2442960" cy="545400"/>
                <a:chOff x="9720" y="5371560"/>
                <a:chExt cx="2442960" cy="54540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156600" y="5371560"/>
                  <a:ext cx="214848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8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p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9720" y="5371560"/>
                  <a:ext cx="244296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2453400" y="5371560"/>
                <a:ext cx="1756080" cy="545400"/>
                <a:chOff x="2453400" y="5371560"/>
                <a:chExt cx="1756080" cy="54540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2600280" y="5371560"/>
                  <a:ext cx="14619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F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453400" y="5371560"/>
                  <a:ext cx="175608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4210560" y="5371560"/>
                <a:ext cx="2227320" cy="545400"/>
                <a:chOff x="4210560" y="5371560"/>
                <a:chExt cx="2227320" cy="54540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4356720" y="5371560"/>
                  <a:ext cx="193392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4210560" y="5371560"/>
                  <a:ext cx="222732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6438960" y="5371560"/>
                <a:ext cx="2692440" cy="545400"/>
                <a:chOff x="6438960" y="5371560"/>
                <a:chExt cx="2692440" cy="54540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6585120" y="5371560"/>
                  <a:ext cx="239904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438960" y="5371560"/>
                  <a:ext cx="269244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9720" y="5916960"/>
                <a:ext cx="2442960" cy="545760"/>
                <a:chOff x="9720" y="5916960"/>
                <a:chExt cx="2442960" cy="54576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156600" y="5916960"/>
                  <a:ext cx="214848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9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US" sz="20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p</a:t>
                  </a:r>
                  <a:r>
                    <a:rPr b="0" lang="en-US" sz="20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0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0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9720" y="5916960"/>
                  <a:ext cx="2442960" cy="5457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2453400" y="5916960"/>
                <a:ext cx="1756080" cy="545760"/>
                <a:chOff x="2453400" y="5916960"/>
                <a:chExt cx="1756080" cy="5457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2600280" y="5916960"/>
                  <a:ext cx="146196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D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/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453400" y="5916960"/>
                  <a:ext cx="1756080" cy="5457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4210560" y="5916960"/>
                <a:ext cx="2227320" cy="545760"/>
                <a:chOff x="4210560" y="5916960"/>
                <a:chExt cx="2227320" cy="54576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4356720" y="5916960"/>
                  <a:ext cx="193392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4210560" y="5916960"/>
                  <a:ext cx="2227320" cy="5457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6438960" y="5916960"/>
                <a:ext cx="2692440" cy="545760"/>
                <a:chOff x="6438960" y="5916960"/>
                <a:chExt cx="2692440" cy="54576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6585120" y="5916960"/>
                  <a:ext cx="239904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438960" y="5916960"/>
                  <a:ext cx="2692440" cy="5457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5" name=""/>
            <p:cNvSpPr/>
            <p:nvPr/>
          </p:nvSpPr>
          <p:spPr>
            <a:xfrm>
              <a:off x="0" y="457200"/>
              <a:ext cx="9143280" cy="60102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Term Symbols and X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-762120" y="1143000"/>
            <a:ext cx="9906120" cy="54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IV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on in TiO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round state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inal state: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pole transition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-sym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configuration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, 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j=0</a:t>
            </a:r>
            <a:br>
              <a:rPr sz="2800"/>
            </a:b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-configuration: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 =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,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DF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   j’=0,1,2,3,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-transition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j=+1,0,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round state 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ransition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Allowed final states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,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-762120" y="1143000"/>
            <a:ext cx="9906120" cy="53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i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II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on in NiO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round state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inal state: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pole transition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-sym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configuration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, 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, 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,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, 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j=4</a:t>
            </a:r>
            <a:br>
              <a:rPr sz="2800"/>
            </a:b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-configuration: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 =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,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DF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   j’=0,1,2,3,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-transition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j=+1,0,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round state 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ransition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F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Allowed final states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,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4,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Term Symbols and X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Atomic multiplet calculations for Ni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762120"/>
            <a:ext cx="914400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Verdana"/>
                <a:ea typeface="Times New Roman"/>
              </a:rPr>
              <a:t>als3ni2a.r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all initial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a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nd final state interactions set to zer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Verdana"/>
                <a:ea typeface="Times New Roman"/>
              </a:rPr>
              <a:t>als3ni2b.r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only 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the 2p spin-orbit coupling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(LS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Verdana"/>
                <a:ea typeface="Times New Roman"/>
              </a:rPr>
              <a:t>2p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is include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Verdana"/>
                <a:ea typeface="Times New Roman"/>
              </a:rPr>
              <a:t>als3ni2c.r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LS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Verdana"/>
                <a:ea typeface="Times New Roman"/>
              </a:rPr>
              <a:t>2p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 and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 the Slater-Condon parameters are include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Verdana"/>
                <a:ea typeface="Times New Roman"/>
              </a:rPr>
              <a:t>als3ni2d.rcg</a:t>
            </a: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Also 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3d spin-orbit coupling is added in the initial state. This yields the full Ni</a:t>
            </a:r>
            <a:r>
              <a:rPr b="0" lang="en-GB" sz="24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2+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 calculation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0" y="122400"/>
            <a:ext cx="9144000" cy="615456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8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 XAS calc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83348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948680" y="1676520"/>
            <a:ext cx="90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L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1600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743200" y="2133360"/>
            <a:ext cx="0" cy="1447560"/>
          </a:xfrm>
          <a:prstGeom prst="line">
            <a:avLst/>
          </a:prstGeom>
          <a:ln cap="sq"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62520" y="2514600"/>
            <a:ext cx="1371600" cy="1219320"/>
          </a:xfrm>
          <a:prstGeom prst="line">
            <a:avLst/>
          </a:prstGeom>
          <a:ln cap="sq"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514920" y="3809880"/>
            <a:ext cx="18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F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, G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: &gt;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7238880" y="2286000"/>
            <a:ext cx="0" cy="1447920"/>
          </a:xfrm>
          <a:prstGeom prst="line">
            <a:avLst/>
          </a:prstGeom>
          <a:ln cap="sq"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528600" y="838080"/>
            <a:ext cx="173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L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3d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: &gt;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193356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Atomic multipl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93356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609480" y="380880"/>
          <a:ext cx="8153640" cy="597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153640" cy="59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5942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142000" y="765000"/>
            <a:ext cx="5064840" cy="1245240"/>
          </a:xfrm>
          <a:prstGeom prst="rect">
            <a:avLst/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lement specific 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 specific 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pole selection rul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= ±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2160" y="228528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55800" y="338220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105520" y="4495680"/>
                <a:ext cx="38098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A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ε</m:t>
                                </m:r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r>
                                      <m:t xml:space="preserve">r</m:t>
                                    </m:r>
                                  </m:e>
                                </m:d>
                                <m:r>
                                  <m:t xml:space="preserve"> 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X-ray Absorption Spectrosco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425120" y="5997600"/>
            <a:ext cx="474048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hys. Rev.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40, 5715 (1989) / 48, 2074 (199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375080" cy="6324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373640" y="533520"/>
            <a:ext cx="4770360" cy="5410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611760" y="2030400"/>
            <a:ext cx="197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iO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(ruti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61120" y="4724280"/>
            <a:ext cx="247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iO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(anat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3200400"/>
            <a:ext cx="4648320" cy="2653560"/>
          </a:xfrm>
          <a:prstGeom prst="rect">
            <a:avLst/>
          </a:prstGeom>
          <a:solidFill>
            <a:srgbClr val="cbcbcb"/>
          </a:solidFill>
          <a:ln cap="sq"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lement specific 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L specific 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re hole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ultiplet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ny body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X-ray Absorption Spectrosco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867200" cy="49528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723920" y="838080"/>
            <a:ext cx="441972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AS probes empty 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Hole pulls down 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inal State Ru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tral shape of XAS looks like final state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Initial State Ru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nsity of XAS is given by the initial st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23120" y="5486400"/>
            <a:ext cx="250164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hys. Rev. 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41, 11899 (199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1320" y="5410080"/>
            <a:ext cx="4357080" cy="1081080"/>
          </a:xfrm>
          <a:prstGeom prst="rect">
            <a:avLst/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pole selection rul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= ±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lement specific 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 specific 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3480" y="838080"/>
            <a:ext cx="90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TiSi</a:t>
            </a:r>
            <a:r>
              <a:rPr b="0" lang="en-US" sz="28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XAS: core hole eff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004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1219320"/>
            <a:ext cx="0" cy="5029200"/>
          </a:xfrm>
          <a:prstGeom prst="line">
            <a:avLst/>
          </a:prstGeom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105520"/>
            <a:ext cx="1143000" cy="0"/>
          </a:xfrm>
          <a:prstGeom prst="line">
            <a:avLst/>
          </a:prstGeom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5029200"/>
            <a:ext cx="152280" cy="1522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5029200"/>
            <a:ext cx="152280" cy="1522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6095880"/>
            <a:ext cx="1143000" cy="0"/>
          </a:xfrm>
          <a:prstGeom prst="line">
            <a:avLst/>
          </a:prstGeom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6019920"/>
            <a:ext cx="152280" cy="1522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6019920"/>
            <a:ext cx="152280" cy="1522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5029200"/>
            <a:ext cx="152280" cy="1522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39440" y="4951440"/>
            <a:ext cx="7660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5029200"/>
            <a:ext cx="152640" cy="152280"/>
          </a:xfrm>
          <a:prstGeom prst="ellipse">
            <a:avLst/>
          </a:prstGeom>
          <a:solidFill>
            <a:srgbClr val="effff7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1219320"/>
            <a:ext cx="6019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17f7"/>
                </a:solidFill>
                <a:latin typeface="Arial"/>
              </a:rPr>
              <a:t>Multiplet eff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trong overlap of 2p-core and 3d-valence wave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Particle model breaks d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sary to use atomic-like configu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17f7"/>
                </a:solidFill>
                <a:latin typeface="Arial"/>
              </a:rPr>
              <a:t>Charge Transf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re hole potential causes reordering of 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1981080"/>
            <a:ext cx="1904760" cy="0"/>
          </a:xfrm>
          <a:prstGeom prst="line">
            <a:avLst/>
          </a:prstGeom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905120"/>
            <a:ext cx="152640" cy="1522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1905120"/>
            <a:ext cx="152640" cy="1522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905120"/>
            <a:ext cx="152640" cy="1522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1905120"/>
            <a:ext cx="152280" cy="1522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1905120"/>
            <a:ext cx="152280" cy="1522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1905120"/>
            <a:ext cx="152280" cy="152280"/>
          </a:xfrm>
          <a:prstGeom prst="ellipse">
            <a:avLst/>
          </a:prstGeom>
          <a:solidFill>
            <a:srgbClr val="ff0000"/>
          </a:solidFill>
          <a:ln cap="sq" w="50760">
            <a:solidFill>
              <a:srgbClr val="e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72360" y="1446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2209680"/>
            <a:ext cx="228600" cy="2590920"/>
          </a:xfrm>
          <a:prstGeom prst="upDownArrow">
            <a:avLst>
              <a:gd name="adj1" fmla="val 50000"/>
              <a:gd name="adj2" fmla="val 225627"/>
            </a:avLst>
          </a:prstGeom>
          <a:solidFill>
            <a:srgbClr val="00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990720" y="2133720"/>
            <a:ext cx="685800" cy="2743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048120"/>
            <a:ext cx="1676520" cy="825480"/>
          </a:xfrm>
          <a:prstGeom prst="rect">
            <a:avLst/>
          </a:prstGeom>
          <a:solidFill>
            <a:srgbClr val="cbcbcb"/>
          </a:solidFill>
          <a:ln cap="sq"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&lt;pd|1/r|pd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~ 10 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XAS: multiplets and char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5T16:21:10Z</dcterms:created>
  <dc:creator>F.M.F. de Groot</dc:creator>
  <dc:description/>
  <dc:language>en-US</dc:language>
  <cp:lastModifiedBy>Groot113</cp:lastModifiedBy>
  <cp:lastPrinted>2000-09-25T15:41:05Z</cp:lastPrinted>
  <dcterms:modified xsi:type="dcterms:W3CDTF">2007-02-13T16:01:50Z</dcterms:modified>
  <cp:revision>270</cp:revision>
  <dc:subject/>
  <dc:title>Company Overview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vsf1.phys.rug.nl/~degroot/</vt:lpwstr>
  </property>
  <property fmtid="{D5CDD505-2E9C-101B-9397-08002B2CF9AE}" pid="9" name="LinkColor">
    <vt:r8>16711782</vt:r8>
  </property>
  <property fmtid="{D5CDD505-2E9C-101B-9397-08002B2CF9AE}" pid="10" name="MailAddress">
    <vt:lpwstr>F.M.F.deGroot@chem.uu.nl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My Document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255</vt:r8>
  </property>
</Properties>
</file>